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4.jpeg" ContentType="image/jpeg"/>
  <Override PartName="/ppt/media/image2.png" ContentType="image/png"/>
  <Override PartName="/ppt/media/image5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13.png" ContentType="image/png"/>
  <Override PartName="/ppt/media/image6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039C-7378-4F86-8812-E0D105518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C81F-A3AD-4DC8-9288-F2A28EE7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8198-5BB5-4722-A89A-86AD32477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7A65-2D62-4DBE-8FDE-7DF8DAAE9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38DA-EEA5-46C1-9A5B-B3506858F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6F9B-6C8F-49B9-8753-5EA11EB25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F781-BA59-4FBD-865C-9C2098AAE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C320-6461-4989-A1D2-3CD74DE76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9F11-73B0-4E29-AB7A-7790A7D76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271D-F384-48E6-9AC3-16624699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0168-A708-4029-9FA8-5DCBFC7D9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86AE-6DC0-4F71-8A5B-33636E63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9C989-E6B6-4783-B7FE-ACBB6E8B4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веро - Казахстанская область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йон М.Жумабаев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. Чистовско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Arial"/>
              </a:rPr>
              <a:t>Звук [и]. Буква И, и</a:t>
            </a:r>
            <a:r>
              <a:rPr b="0" i="1" lang="ru-RU" sz="5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рок по обучению грамоте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 класс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читель: Краюшкина О.В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16-2017 уч.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828800" y="304920"/>
            <a:ext cx="57834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1028880"/>
            <a:ext cx="9144000" cy="45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177840"/>
            <a:ext cx="9144000" cy="60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2"/>
          <p:cNvSpPr txBox="1"/>
          <p:nvPr/>
        </p:nvSpPr>
        <p:spPr>
          <a:xfrm>
            <a:off x="1187280" y="260280"/>
            <a:ext cx="266400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5" name="WordArt 3"/>
          <p:cNvSpPr txBox="1"/>
          <p:nvPr/>
        </p:nvSpPr>
        <p:spPr>
          <a:xfrm>
            <a:off x="5076720" y="333360"/>
            <a:ext cx="208764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Book Antiqua"/>
              </a:rPr>
              <a:t>И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Book Antiqua"/>
              <a:ea typeface="Book Antiqua"/>
            </a:endParaRPr>
          </a:p>
        </p:txBody>
      </p:sp>
      <p:sp>
        <p:nvSpPr>
          <p:cNvPr id="56" name="WordArt 4"/>
          <p:cNvSpPr txBox="1"/>
          <p:nvPr/>
        </p:nvSpPr>
        <p:spPr>
          <a:xfrm>
            <a:off x="3924360" y="3645000"/>
            <a:ext cx="208764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</a:rPr>
              <a:t>и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Georgia"/>
              <a:ea typeface="Georgia"/>
            </a:endParaRPr>
          </a:p>
        </p:txBody>
      </p:sp>
      <p:sp>
        <p:nvSpPr>
          <p:cNvPr id="57" name="WordArt 5"/>
          <p:cNvSpPr txBox="1"/>
          <p:nvPr/>
        </p:nvSpPr>
        <p:spPr>
          <a:xfrm>
            <a:off x="7236000" y="3500280"/>
            <a:ext cx="151128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0000"/>
                </a:solidFill>
                <a:latin typeface="Century Gothic"/>
              </a:rPr>
              <a:t>и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990000"/>
              </a:solidFill>
              <a:latin typeface="Century Gothic"/>
              <a:ea typeface="Century Gothic"/>
            </a:endParaRPr>
          </a:p>
        </p:txBody>
      </p:sp>
      <p:sp>
        <p:nvSpPr>
          <p:cNvPr id="58" name="WordArt 6"/>
          <p:cNvSpPr txBox="1"/>
          <p:nvPr/>
        </p:nvSpPr>
        <p:spPr>
          <a:xfrm>
            <a:off x="826920" y="4076640"/>
            <a:ext cx="1729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Times New Roman"/>
              </a:rPr>
              <a:t>и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Times New Roman"/>
              <a:ea typeface="Times New Roman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6163200" y="6613560"/>
            <a:ext cx="2980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осмотри, сколько буковок!!! И это все буквы 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76320"/>
            <a:ext cx="914400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228600"/>
            <a:ext cx="289548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352680" y="577800"/>
            <a:ext cx="2743200" cy="1968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654360" y="3809880"/>
            <a:ext cx="1606680" cy="22640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571680" y="304920"/>
            <a:ext cx="2361960" cy="23619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6146640" y="0"/>
            <a:ext cx="2997360" cy="2997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6095880" y="3809880"/>
            <a:ext cx="3048120" cy="2019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457200" y="3483000"/>
            <a:ext cx="26668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Подбери слова к картинка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73392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228600" y="1295280"/>
            <a:ext cx="3200400" cy="2752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6400800" y="1447920"/>
            <a:ext cx="2446200" cy="2133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609480" y="4800600"/>
            <a:ext cx="1981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ис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962520" y="4800600"/>
            <a:ext cx="175248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ит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781680" y="4800600"/>
            <a:ext cx="17528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ис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Артикуляция звука [и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губы улыбаются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язык упирается в нижние зубы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воздух свободно проходит через рот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9999"/>
                </a:solidFill>
                <a:latin typeface="Arial"/>
              </a:rPr>
              <a:t>Произношение зву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447920" y="1066680"/>
            <a:ext cx="6095880" cy="364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гра 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Узнай букву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23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Сколько слогов?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Какой первый слог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колько в нем звуков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Какой второй слог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Сколько в нем звуков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Сколько всего звуков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На какой слог падает ударение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Назовите ударный гласный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Какой первый гласный звук в словах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иголка и нитк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Дайте характеристику звуку [и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572000" y="2666880"/>
            <a:ext cx="4038480" cy="2681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762120" y="3200400"/>
            <a:ext cx="2743200" cy="1816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838080" y="4952880"/>
            <a:ext cx="236232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гол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562720" y="4952880"/>
            <a:ext cx="26668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ит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>
            <a:lum bright="-18000"/>
          </a:blip>
          <a:srcRect l="10109" t="1352" r="11473" b="0"/>
          <a:stretch/>
        </p:blipFill>
        <p:spPr>
          <a:xfrm>
            <a:off x="4788000" y="1413000"/>
            <a:ext cx="4176720" cy="5222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404640"/>
            <a:ext cx="46083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кат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лись прямо вн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з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право до небес взв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л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нова резко вн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з упал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Букву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мы нап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ал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-57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828800" y="1184400"/>
            <a:ext cx="495288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523880" y="1011240"/>
            <a:ext cx="563904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057400" y="1355760"/>
            <a:ext cx="449568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0" y="1447920"/>
            <a:ext cx="434340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81080" y="1278000"/>
            <a:ext cx="533412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057400" y="1335240"/>
            <a:ext cx="510552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143000" y="192240"/>
            <a:ext cx="7010280" cy="60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6T18:06:42Z</dcterms:created>
  <dc:creator>Сергей Краюшкин</dc:creator>
  <dc:description/>
  <dc:language>en-US</dc:language>
  <cp:lastModifiedBy>Сергей</cp:lastModifiedBy>
  <dcterms:modified xsi:type="dcterms:W3CDTF">2016-12-13T14:05:1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