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3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3C88-6C9F-48C3-A3B4-0E3E013C3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80B7-795C-406A-83A4-3BCB93D3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3D2C-33E4-45AD-86B5-0C2F1BAC5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0E0E-8437-4111-81F8-87C1B1407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F7DF-5544-4348-A31A-CAD40AAC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B740-0D34-452A-885F-BF5403EB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A6BB-883D-44B5-B90D-86C1C71E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CEAA-FCE4-4B52-9C6D-10458008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6DDD-AB35-4D0C-8310-C59A03FC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BCC1-AA5E-4141-B902-E38544E2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EC80-0297-4BF2-8BA3-13362407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A0FC-CA16-4228-955E-194C95C5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DCB4-E8FF-4178-AD08-DCB05D642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веро - Казахстанская област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йон М.Жумабаев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. Чистовско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Звук [и]. Буква И, и</a:t>
            </a:r>
            <a:r>
              <a:rPr b="0" i="1" lang="ru-RU" sz="5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рок по обучению грамоте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 класс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: Краюшкина О.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6-2017 уч.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828800" y="304920"/>
            <a:ext cx="57834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1028880"/>
            <a:ext cx="9144000" cy="45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17784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1187280" y="260280"/>
            <a:ext cx="266400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5" name="WordArt 3"/>
          <p:cNvSpPr txBox="1"/>
          <p:nvPr/>
        </p:nvSpPr>
        <p:spPr>
          <a:xfrm>
            <a:off x="5076720" y="333360"/>
            <a:ext cx="20876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Book Antiqua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Book Antiqua"/>
              <a:ea typeface="Book Antiqua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3924360" y="3645000"/>
            <a:ext cx="208764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Georgia"/>
              <a:ea typeface="Georgia"/>
            </a:endParaRPr>
          </a:p>
        </p:txBody>
      </p:sp>
      <p:sp>
        <p:nvSpPr>
          <p:cNvPr id="57" name="WordArt 5"/>
          <p:cNvSpPr txBox="1"/>
          <p:nvPr/>
        </p:nvSpPr>
        <p:spPr>
          <a:xfrm>
            <a:off x="7236000" y="3500280"/>
            <a:ext cx="15112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Century Gothic"/>
              </a:rPr>
              <a:t>и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Century Gothic"/>
              <a:ea typeface="Century Gothic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826920" y="4076640"/>
            <a:ext cx="1729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Times New Roman"/>
              </a:rPr>
              <a:t>и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Times New Roman"/>
              <a:ea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6163200" y="6613560"/>
            <a:ext cx="298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смотри, сколько буковок!!! И это все буквы 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28600"/>
            <a:ext cx="28954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352680" y="577800"/>
            <a:ext cx="2743200" cy="1968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654360" y="3809880"/>
            <a:ext cx="1606680" cy="2264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71680" y="304920"/>
            <a:ext cx="2361960" cy="2361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6146640" y="0"/>
            <a:ext cx="2997360" cy="2997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6095880" y="3809880"/>
            <a:ext cx="3048120" cy="2019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457200" y="348300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одбери слова к картинк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73392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3200400" cy="2752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400800" y="1447920"/>
            <a:ext cx="2446200" cy="2133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609480" y="4800600"/>
            <a:ext cx="1981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ис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62520" y="4800600"/>
            <a:ext cx="17524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ит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781680" y="4800600"/>
            <a:ext cx="1752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с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ртикуляция звука [и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губы улыбаютс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язык упирается в нижние зуб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воздух свободно проходит через ро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9999"/>
                </a:solidFill>
                <a:latin typeface="Arial"/>
              </a:rPr>
              <a:t>Произношение зв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447920" y="1066680"/>
            <a:ext cx="6095880" cy="364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гра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Узнай букву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3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Сколько слогов?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Какой первый слог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колько в нем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акой второй слог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Сколько в нем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Сколько всего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На какой слог падает ударение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Назовите ударный гласный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Какой первый гласный звук в словах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голка и нит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айте характеристику звуку [и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0" y="2666880"/>
            <a:ext cx="4038480" cy="2681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62120" y="3200400"/>
            <a:ext cx="2743200" cy="1816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838080" y="4952880"/>
            <a:ext cx="236232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гол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562720" y="4952880"/>
            <a:ext cx="26668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ит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>
            <a:lum bright="-18000"/>
          </a:blip>
          <a:srcRect l="10109" t="1352" r="11473" b="0"/>
          <a:stretch/>
        </p:blipFill>
        <p:spPr>
          <a:xfrm>
            <a:off x="4788000" y="1413000"/>
            <a:ext cx="4176720" cy="5222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404640"/>
            <a:ext cx="4608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кат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ись прямо вн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право до небес взв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нова резко вн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 упа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укву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мы нап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а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28800" y="1184400"/>
            <a:ext cx="495288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3880" y="1011240"/>
            <a:ext cx="563904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057400" y="1355760"/>
            <a:ext cx="44956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0" y="1447920"/>
            <a:ext cx="43434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81080" y="1278000"/>
            <a:ext cx="533412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057400" y="1335240"/>
            <a:ext cx="510552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43000" y="192240"/>
            <a:ext cx="7010280" cy="60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18:06:42Z</dcterms:created>
  <dc:creator>Сергей Краюшкин</dc:creator>
  <dc:description/>
  <dc:language>en-US</dc:language>
  <cp:lastModifiedBy>Сергей</cp:lastModifiedBy>
  <dcterms:modified xsi:type="dcterms:W3CDTF">2016-12-13T14:05:1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