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B835-AE48-469E-AA05-DD086A1BA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0699-E109-4A95-A8BE-F64FBC46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9F78-F458-4EAD-8FF0-2C2A4DCA2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12C9-0460-4B1A-9035-9EDFE396A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536F-AF39-406E-8B87-E14BA7F5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300C-C678-4C2F-9962-B50C127E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F636-0910-4D2E-A61E-259CFB4C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849A-C214-415B-A4E7-6DBE91DD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F1E0-1916-4072-8509-42221FB3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2FCE-EBE6-46FF-A9D3-BF956217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4675-BB72-4FAF-AF75-9BC327EF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7579-31E0-40A3-B5A6-7D8297AB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A47D-9E62-40C2-A107-46B246F334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амостоятельная рабо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457200" y="2743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523880" y="1447920"/>
          <a:ext cx="6096240" cy="4694040"/>
        </p:xfrm>
        <a:graphic>
          <a:graphicData uri="http://schemas.openxmlformats.org/drawingml/2006/table">
            <a:tbl>
              <a:tblPr/>
              <a:tblGrid>
                <a:gridCol w="2438640"/>
                <a:gridCol w="1143000"/>
                <a:gridCol w="1218960"/>
                <a:gridCol w="1295640"/>
              </a:tblGrid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ите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ахст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с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ер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ли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вн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т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Овал 6"/>
          <p:cNvSpPr/>
          <p:nvPr/>
        </p:nvSpPr>
        <p:spPr>
          <a:xfrm>
            <a:off x="7772400" y="5334120"/>
            <a:ext cx="457200" cy="533160"/>
          </a:xfrm>
          <a:prstGeom prst="ellipse">
            <a:avLst/>
          </a:prstGeom>
          <a:solidFill>
            <a:srgbClr val="fcd5b5"/>
          </a:solidFill>
          <a:ln cap="rnd"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5:47:16Z</dcterms:created>
  <dc:creator>Катя</dc:creator>
  <dc:description/>
  <dc:language>en-US</dc:language>
  <cp:lastModifiedBy>Пользователь</cp:lastModifiedBy>
  <dcterms:modified xsi:type="dcterms:W3CDTF">2015-12-24T17:52:00Z</dcterms:modified>
  <cp:revision>9</cp:revision>
  <dc:subject/>
  <dc:title>Название презентации</dc:title>
</cp:coreProperties>
</file>