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F62F-2B0A-493C-B321-216745FE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8540-437F-4C82-9DD6-44E3EE24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918B-6FD2-4A45-9512-38C7E5D3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4946-285A-43EE-82D4-CE8F4DD7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5CF0-17DA-41A0-997C-B9D55242B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7264-17EF-462F-96D7-1F4F5991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0156-39A4-4341-8E55-8C6A6A59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D9E1-F131-4E0F-A94C-C909C156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DA44-B810-4C89-AE7E-7F010390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0C84-55AD-49AA-850F-C5E3157C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44B6-4D3A-4EB9-8D03-1C0D6C5D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B59A-4EEC-4CCB-A90B-42AB4CD2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F7EA-1EC2-4309-B3DD-800D0F24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D096-D915-4118-9318-3732A102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C8DD-FA3B-4497-805B-6C603960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899F-4DAB-431B-A846-E0DB5241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F468-D30C-4389-9E66-17FE337D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E28C-F71E-4CD6-8B56-DD6CAC38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FE9D-8695-4318-B805-08B1679A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B7B7-D7CD-4EB1-8471-38FDBDF9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280-90B5-42C9-B850-745A33F5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1ECD-4328-41F8-A271-37316C06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C900-705D-4B40-ADC3-6FF8CBD2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495D-5AFA-49EC-81E9-7A7108CA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E5AF-406D-40D1-893E-B84DB361242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E613-605F-4319-8485-3F2ECDBBEC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23.xml"/><Relationship Id="rId7" Type="http://schemas.openxmlformats.org/officeDocument/2006/relationships/slide" Target="slide35.xml"/><Relationship Id="rId8" Type="http://schemas.openxmlformats.org/officeDocument/2006/relationships/slide" Target="slide27.xml"/><Relationship Id="rId9" Type="http://schemas.openxmlformats.org/officeDocument/2006/relationships/slide" Target="slide24.xml"/><Relationship Id="rId10" Type="http://schemas.openxmlformats.org/officeDocument/2006/relationships/slide" Target="slide36.xml"/><Relationship Id="rId11" Type="http://schemas.openxmlformats.org/officeDocument/2006/relationships/slide" Target="slide28.xml"/><Relationship Id="rId12" Type="http://schemas.openxmlformats.org/officeDocument/2006/relationships/slide" Target="slide25.xml"/><Relationship Id="rId13" Type="http://schemas.openxmlformats.org/officeDocument/2006/relationships/slide" Target="slide37.xml"/><Relationship Id="rId14" Type="http://schemas.openxmlformats.org/officeDocument/2006/relationships/slide" Target="slide29.xml"/><Relationship Id="rId15" Type="http://schemas.openxmlformats.org/officeDocument/2006/relationships/slide" Target="slide26.xml"/><Relationship Id="rId16" Type="http://schemas.openxmlformats.org/officeDocument/2006/relationships/slide" Target="slide38.xml"/><Relationship Id="rId17" Type="http://schemas.openxmlformats.org/officeDocument/2006/relationships/slide" Target="slide30.xm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3623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С тех пор, как существует мирозданье,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Такого нет, кто б ни нуждался в знанье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Какой мы не возьмем язык и век,-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Всегда стремился к знанью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652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 Самый легки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880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.  Что общего между ракетой и кальма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хожи внеш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ижутся, используя реактивный принци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овах есть сочетание букв «ра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96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. Найдите лишнее слово в выражении: « Сумма двух острых углов в прямоугольном треугольнике равна 90 град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тры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ух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ямоугольн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810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1. Драйв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 понятия водитель автомобиля с английс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чик программы на язык, “понятный” компьют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 для обслуживания периферийного устрой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81080"/>
            <a:ext cx="769644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2.  Реакция взаимодействия прос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2012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редметный калейд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09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60948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0948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5181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525780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525780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666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181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Т и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6324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658" h="21600">
                <a:moveTo>
                  <a:pt x="31823" y="10800"/>
                </a:moveTo>
                <a:lnTo>
                  <a:pt x="45836" y="3794"/>
                </a:lnTo>
                <a:lnTo>
                  <a:pt x="4583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Алгеб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График прямой пропорцион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лата за кре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( а+в+с )2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колько получится десятков, если два десятка умножить на два деся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Какое натуральное число не является ни простым , ни состав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В какой четверти находится угол в 371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Как называется равенство двух час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изменится дробь, если числитель ее увеличить на знамена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Половина – треть числа. Какое это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Синус какого угла равен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05120" y="4572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75248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Высоты данного треугольника не пересекаются.  Какой это тре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Форма футбольного мя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Луч, который делит угол попо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Свойство, требующее доказатель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Какой современный термин соответствует названию фигуры «косое пол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Какое наибольшее число внешних тупых углов возможно в треуголь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Какой термин происходит от сочетания двух греческих слов «через» и «угол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Можно ли вписать окружность в прямо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Этот математический термин в переводе с греческого означает «струна». Ч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На какую сторону падает меньшая высота треуголь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01000" y="63244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18883" y="10800"/>
                </a:moveTo>
                <a:lnTo>
                  <a:pt x="32896" y="3794"/>
                </a:lnTo>
                <a:lnTo>
                  <a:pt x="3289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Х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а окс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акция нейтр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амилии какого ученого девять букв, из них четыре «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овите женщину – химика, лауреата Нобелевской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то из ученых разработал теорию электролитической диссоци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Щелочным металлом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щества ускоряющие химическую реакцию называю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сид углерода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это ядовитый газ, котор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м способом получения алюминия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драргерум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696080" y="63244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10800"/>
                </a:moveTo>
                <a:lnTo>
                  <a:pt x="39366" y="3794"/>
                </a:lnTo>
                <a:lnTo>
                  <a:pt x="3936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286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4300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 система счисления используется в ЭВМ: бинарная или двоичн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акой плате компьютера размещен процессор: на системной или материнс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кое разрешение — это подпись начальства на вашем заявлении или способность монитора четко отображать текст и граф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это за романтическое место в компьютере, где может причалить усталое и потрепанное бурями периферийное устрой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ой компьютерный термин английского происхождения при дословном переводе означает междумордие”?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икламен — это программист мужского пола, программы которого всегда изобилуют циклами, или же альпийская фиа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Какие банки создают только программис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Какой инфекцией может заразиться компьют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Кого считают первой программист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Как зовут создателя компании “Майкрософт” Гейт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6201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133720" y="213372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133720" y="388620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0968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09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й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3048120"/>
            <a:ext cx="6476760" cy="609480"/>
            <a:chOff x="2133720" y="3048120"/>
            <a:chExt cx="6476760" cy="609480"/>
          </a:xfrm>
        </p:grpSpPr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2133720" y="304812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8280" y="3048120"/>
              <a:ext cx="609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Предметный калейдоско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362320" y="3886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мная лош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33720" y="4800600"/>
            <a:ext cx="6476760" cy="1068840"/>
            <a:chOff x="2133720" y="4800600"/>
            <a:chExt cx="6476760" cy="1068840"/>
          </a:xfrm>
        </p:grpSpPr>
        <p:sp>
          <p:nvSpPr>
            <p:cNvPr id="101" name=""/>
            <p:cNvSpPr/>
            <p:nvPr/>
          </p:nvSpPr>
          <p:spPr>
            <a:xfrm>
              <a:off x="2133720" y="480060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2362320" y="4800600"/>
              <a:ext cx="5943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теллектуальный сприн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286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Физ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7524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14400"/>
            <a:ext cx="8381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-то раз спросили розу, отчего, чаруя око, ты колючими шипами нас царапаешь жесто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ему воздушный шар днем поднять труднее? Ночью этот стратостат ввысь летит ско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можно объяснить пословицу: «Как с гуся в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красная дама нюхала розы, но расчихалась – закапали слезы! Из-за чего бывают вот такие конфуз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тоящий на полу человек может быстро удвоить давление на пол, не нагружая себя никакими дополнительными груз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а по воде плы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ь я и не снег, но таю, не птица, а ле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ве сестры качались – правды добивались. А когда добились, то останов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е мамочка – механика, сестра родная – динамики. Она и физика, и математика. Зовется эта обла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го в сундук не спряч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391520" y="62485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83" h="21600">
                <a:moveTo>
                  <a:pt x="27535" y="10800"/>
                </a:moveTo>
                <a:lnTo>
                  <a:pt x="41548" y="3794"/>
                </a:lnTo>
                <a:lnTo>
                  <a:pt x="4154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2860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ычислительная техника и системы счис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76312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счетная доска у древних римлян и гре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вычислительной техникой пользовались счетоводы в середине 20 ве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прибор использовали школьники для упрощения вычислений до изобретения калькулят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то изобрел первую счетную маш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первая а мире ЭВ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е число служит основанием основной системы счисления употребляемой во всем м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им словом обозначался миллион в Древней Ру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непозиционных системах счисления положение знака в записи числа не играет роли, и хотя, эти системы считаются неудобными, мы до сих пор используем в записи эти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енно эта система счисления оказалась самой удобной для выполнения арифметических операций на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древнем Вавилоне использовали свою систему счисления. Ее следы сохранились до наших дней, и мы ежедневно используем ее. 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77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Темная лошад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8288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666880"/>
            <a:ext cx="3809880" cy="6098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6576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5720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 лабиринтах мы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743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наете ли 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581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изнь замечательны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нета «Железя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9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0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6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вый слог в названии реки в Сибири и первая буква названия полупроводникового прибора составляют название твердого состоя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известные вам два газа не ядовиты, однако от них гибнут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2514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ая кислота всегда находится в желудке здорового человека, а при недостатке этой кислоты ее употребляют как лекар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2286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едавно во Флориде построен дом из алюминия. Алюминий был получен при переработке вторичного сырья. Всего на сооружение дома потребовалось более полмиллиарда единиц этого вторичного сырья. Что это за сыр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13372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Англии давно была написана программа, предназначенная для использования в офисах крупных компаний. По принципу действия она напоминает антивирусы, но используется для друг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ля ка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ле дефрагментации жесткого магнитного диска объем свободного места на нем станет больше, меньше или не измен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4382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программы называют троянскими конями, или троян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во происхождение этого наз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828800"/>
            <a:ext cx="76201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де сила тяжести одного и того же тела больше: на полюсе или на экват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полю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эква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де один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362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отношение к компьютерам имеют термины: бриллиант, диамант, перл, нонпарель, миньон, петит, боргес, корпус, цицеро, миттель, терци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79250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могиле этого великого математика был установлен памятник с изображением шара и описанного около него цилиндра. Спустя почти 200 лет по этому чертежу нашли его моги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то этот математик? ( можно назвать любые три  букв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ое наибольшее число воскресений может быть в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97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то больше: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л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514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жасный вирус пожирает память компьютера. За первую секунду он управился с половиной памяти, за вторую с одной третьей оставшейся части, а за третью секунду – с четвертью того, что еще сохранилось, за четвертую – с одной пятой остатка. И тут его настиг Антивирус. Какая часть памяти уцел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26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1055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 изобрел телескоп; для изучения одного явления взбирался на Пизанскую башню; ввел понятие «инерция», «ИСО»; фамилия и имя очень похож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40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1814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т русский ученый создал на основе механики Ньютона теорию космических летательных аппар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54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8006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к и математик, открывший и исследовавший ряд важных свойств жидкости и газа, доказавший существование атмосферного давления. Он открыл закон о том, что давление производимое на жидкость или газ, передается без изменений в каждую точку жидкости или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69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733920" y="373392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648320"/>
            <a:ext cx="8534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тстве он ходил с отцом в дальние плавания – к Новой Земле и Шпицбергену. Учился в Германии, был рекрутом гвардии короля Фридриха Вильгель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но сумел сбежать и вернулся на родину. В 1748 году он сочинил поздравительную оду императрице  Елизавете. В 1749 году создал химическую лабораторию. Изготовлял мозаичные картины из цветного стекла, которое сам производил. Его считают основоположником атомно-молекуля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я, одним из авторов закона сохранения массы и 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172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теллектуальный спри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3095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7620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2. Что на латыни обозначает слово «вектор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лзущ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тремящий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Винчест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стройство внешней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ород в Великобрит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зван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Валентность алюм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76964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 Когда мяч находится в состоянии невесомости: при вертикальном подъеме или при па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па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вертикальном подъ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уча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3822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Этот греческий купец, измерив тень от пирамиды и тень от шеста и , применив свои теоремы о подобии, вычислил высоту пирамиды. Его и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вкли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рхиме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Фале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Вирус –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шибка в программ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збудитель инфекционного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, обладающая способностью к самовоспроиз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6T08:55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