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4.jpeg" ContentType="image/jpeg"/>
  <Override PartName="/ppt/media/image2.png" ContentType="image/pn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3CF-7B50-4233-B9C2-A5FD0A00B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9CED-07B6-469A-867E-207F0E5D9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AE21-553C-4732-B051-9BFEF8B88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6D84-9CC6-41A0-A6BE-B6BEF5727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3451-AE45-4FA6-86BB-58F00808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EE14-5A38-41FC-915F-038C77C8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F68-3830-4EE1-BDC8-2F02820B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7CD2-7797-47BD-BEB3-41C34C16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5A0D-1804-4A5A-9EF2-088B4F0E7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64C1-C635-40C6-8DAB-609A2299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3039-D89D-4DEA-A566-5B9218A9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57B6-FC45-4A60-8F64-F7CD982A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27013-91D8-44EC-93E6-8FA8C509D4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image" Target="../media/image21.jpeg"/><Relationship Id="rId8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26.png"/><Relationship Id="rId9" Type="http://schemas.openxmlformats.org/officeDocument/2006/relationships/image" Target="../media/image27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еверо - Казахстанская область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йон М.Жумабаева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. Чистовско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Arial"/>
              </a:rPr>
              <a:t>Звук [и]. Буква И, и</a:t>
            </a:r>
            <a:r>
              <a:rPr b="0" i="1" lang="ru-RU" sz="5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рок по обучению грамоте </a:t>
            </a:r>
            <a:br>
              <a:rPr sz="2000"/>
            </a:b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 класс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Учитель: Краюшкина О.В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016-2017 уч.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828800" y="304920"/>
            <a:ext cx="5783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0" y="1028880"/>
            <a:ext cx="9144000" cy="45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0" y="17784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1187280" y="260280"/>
            <a:ext cx="266400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55" name="WordArt 3"/>
          <p:cNvSpPr txBox="1"/>
          <p:nvPr/>
        </p:nvSpPr>
        <p:spPr>
          <a:xfrm>
            <a:off x="5076720" y="333360"/>
            <a:ext cx="208764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Book Antiqu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Book Antiqua"/>
              <a:ea typeface="Book Antiqua"/>
            </a:endParaRPr>
          </a:p>
        </p:txBody>
      </p:sp>
      <p:sp>
        <p:nvSpPr>
          <p:cNvPr id="56" name="WordArt 4"/>
          <p:cNvSpPr txBox="1"/>
          <p:nvPr/>
        </p:nvSpPr>
        <p:spPr>
          <a:xfrm>
            <a:off x="3924360" y="3645000"/>
            <a:ext cx="2087640" cy="26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</a:rPr>
              <a:t>и</a:t>
            </a:r>
            <a:endParaRPr b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Georgia"/>
              <a:ea typeface="Georgia"/>
            </a:endParaRPr>
          </a:p>
        </p:txBody>
      </p:sp>
      <p:sp>
        <p:nvSpPr>
          <p:cNvPr id="57" name="WordArt 5"/>
          <p:cNvSpPr txBox="1"/>
          <p:nvPr/>
        </p:nvSpPr>
        <p:spPr>
          <a:xfrm>
            <a:off x="7236000" y="3500280"/>
            <a:ext cx="151128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0000"/>
                </a:solidFill>
                <a:latin typeface="Century Gothic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990000"/>
              </a:solidFill>
              <a:latin typeface="Century Gothic"/>
              <a:ea typeface="Century Gothic"/>
            </a:endParaRPr>
          </a:p>
        </p:txBody>
      </p:sp>
      <p:sp>
        <p:nvSpPr>
          <p:cNvPr id="58" name="WordArt 6"/>
          <p:cNvSpPr txBox="1"/>
          <p:nvPr/>
        </p:nvSpPr>
        <p:spPr>
          <a:xfrm>
            <a:off x="826920" y="4076640"/>
            <a:ext cx="1729080" cy="22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99"/>
                </a:solidFill>
                <a:latin typeface="Times New Roman"/>
              </a:rPr>
              <a:t>и</a:t>
            </a:r>
            <a:endParaRPr b="1" i="1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99"/>
              </a:solidFill>
              <a:latin typeface="Times New Roman"/>
              <a:ea typeface="Times New Roman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6163200" y="6613560"/>
            <a:ext cx="2980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Посмотри, сколько буковок!!! И это все буквы 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228600"/>
            <a:ext cx="2895480" cy="21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352680" y="577800"/>
            <a:ext cx="2743200" cy="1968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3654360" y="3809880"/>
            <a:ext cx="1606680" cy="22640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571680" y="304920"/>
            <a:ext cx="2361960" cy="236196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6146640" y="0"/>
            <a:ext cx="2997360" cy="2997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6095880" y="3809880"/>
            <a:ext cx="3048120" cy="2019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457200" y="3483000"/>
            <a:ext cx="2666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Подбери слова к картинка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733920" y="1600200"/>
            <a:ext cx="2914560" cy="218592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8600" y="1295280"/>
            <a:ext cx="3200400" cy="2752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6400800" y="1447920"/>
            <a:ext cx="2446200" cy="2133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609480" y="4800600"/>
            <a:ext cx="19814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рис</a:t>
            </a:r>
            <a:endParaRPr b="0" lang="en-US" sz="1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62520" y="4800600"/>
            <a:ext cx="175248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ит</a:t>
            </a:r>
            <a:endParaRPr b="0" lang="en-US" sz="18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781680" y="4800600"/>
            <a:ext cx="1752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9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лис</a:t>
            </a:r>
            <a:endParaRPr b="0" lang="en-US" sz="1800" spc="1" strike="noStrike">
              <a:ln w="0">
                <a:noFill/>
              </a:ln>
              <a:blipFill rotWithShape="0">
                <a:blip r:embed="rId10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Артикуляция звука [и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убы улыбаются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язык упирается в нижние зубы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воздух свободно проходит через рот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9999"/>
                </a:solidFill>
                <a:latin typeface="Arial"/>
              </a:rPr>
              <a:t>Произношение зву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447920" y="1066680"/>
            <a:ext cx="6095880" cy="364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Игра 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Узнай букву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23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Сколько слогов? 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Какой первы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Какой второй слог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Сколько в нем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Сколько всего звуков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cc00ff"/>
                </a:solidFill>
                <a:latin typeface="Arial"/>
              </a:rPr>
              <a:t>На какой слог падает ударение?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Назовите ударный гласный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- Какой первый гласный звук в словах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голка и нитка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Дайте характеристику звуку [и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666880"/>
            <a:ext cx="4038480" cy="2681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2743200" cy="1816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8080" y="4952880"/>
            <a:ext cx="23623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гол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5562720" y="4952880"/>
            <a:ext cx="266688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итк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bright="-18000"/>
          </a:blip>
          <a:srcRect l="10109" t="1352" r="11473" b="0"/>
          <a:stretch/>
        </p:blipFill>
        <p:spPr>
          <a:xfrm>
            <a:off x="4788000" y="1413000"/>
            <a:ext cx="4176720" cy="52228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0" y="404640"/>
            <a:ext cx="460836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ат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ись прям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право до небес взв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ь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нова резко вн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з уп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укву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мы нап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ал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57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828800" y="1184400"/>
            <a:ext cx="495288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523880" y="1011240"/>
            <a:ext cx="563904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057400" y="1355760"/>
            <a:ext cx="44956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1447920"/>
            <a:ext cx="4343400" cy="32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981080" y="1278000"/>
            <a:ext cx="5334120" cy="39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057400" y="1335240"/>
            <a:ext cx="5105520" cy="38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43000" y="192240"/>
            <a:ext cx="7010280" cy="60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6T18:06:42Z</dcterms:created>
  <dc:creator>Сергей Краюшкин</dc:creator>
  <dc:description/>
  <dc:language>en-US</dc:language>
  <cp:lastModifiedBy>Сергей</cp:lastModifiedBy>
  <dcterms:modified xsi:type="dcterms:W3CDTF">2016-12-13T14:05:10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