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1CB8-78E4-4083-B8BC-74584BD8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61A9-8DEE-4ECA-9437-D59E182B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F942-39E7-4D64-871C-ED70D2FE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95B2-0AF4-4BDF-8167-45B124FB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938D-87D7-4A78-A9B9-8C997824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921D-4267-4B05-995F-E475DD89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3DFB-9F72-47E7-B179-86AFE6FF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9D8C-D6B6-4F0C-8113-77DD67F1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30EE-18BD-4F8C-B5A3-9666E4C7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7556-A8E0-4ECC-944C-53402A2A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EE1A-1303-4667-86BD-640DC4A6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6255-AFB4-4D30-8243-73B26AF1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CC16-CDCA-49FC-A6AF-00DCDB8B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0839-FD0C-40AA-A002-CB01C0C8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508F-A453-4E69-B4FB-F88EF36D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A562-08CC-4489-8174-1476DAF6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A705-7412-4C5A-8847-70C68FBA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939D-CDC0-4DE3-9FC9-F62C1A5C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3B6C-2743-47E9-BA45-AEB45726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493-BB49-4888-AFEF-35050B0C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72A5-B79B-49BE-B670-139A5FF0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F34D-214D-4015-AB15-1556B301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38FF-BC28-4483-B2BC-C4A6AA13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EEB-B885-48CC-9EEF-4B29DD6B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6D9EE-D7D1-4742-94CA-1CE41BBA3CB7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50E5-6E80-455C-A947-CCC40A3F2A7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1196640"/>
            <a:ext cx="496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3708360" y="450864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в 5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орова Диана Баянбеков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И В ПЛЕО ЕН ОВ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о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ДЕ МЕРЯВ, А ХЕТЕПО С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059280" y="3141720"/>
            <a:ext cx="1008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987640" y="6021360"/>
            <a:ext cx="12970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812000" y="6093000"/>
            <a:ext cx="11527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по очереди загадываются пословицы с пропущенным словом. Учащиеся должны найти пропущенное слово и перевести его на казахский и английский языки. За каждый правильный ответ вы получите по 1 баллу. Максимальный балл - 3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6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 ..., торопись д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зык, тіл, tongue [tʌŋ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ознается в б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г, дос, friend [frend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освещается солнцем, а человек – зн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р, әлем, universe [ju:nɪvɜ:s] или world [wɜ: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аха ... ве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, көз, ey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рославляет тру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, адам, man [mæn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– лучший д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ига, кітап, book [bʊk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ихо-вар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частников команд должен прочитать наизусть стихотворение. Критерии оценивания: название произведения и автор, выразительность, эмоциональность, громкость. Максимальный балл – 4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конкурса: команды выстраиваются в прямую линию. Учитель сообщает скороговорку первому игроку, по сигналу тот шепотом передает ее второму и т.д. Последний должен внятно и громко произнести скороговорку. Критерии оценивание – это внятность и громкость. Максимальный балл – 2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ежи да у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ежик у елки, а у ежа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две курицы прямо по ул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3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ВАС пишется слитно, а К ВАМ – разде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о «квас» - имя существительное, а – «к вам» - местоимение с предлого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уществительное состоит из трёх 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естоимение требует чисто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птицы – это перв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известен всем предл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ретий – бурная вол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шарада всем яс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 – НА – В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Ы мы мчим вас что есть м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 – мы ноги вам промоч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ЫЖИ – ЛУЖ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belgdb.ru/assets/templates/project/2015/teenager/under_sun/img/main.png"/>
          <p:cNvPicPr/>
          <p:nvPr/>
        </p:nvPicPr>
        <p:blipFill>
          <a:blip r:embed="rId1"/>
          <a:stretch/>
        </p:blipFill>
        <p:spPr>
          <a:xfrm>
            <a:off x="395280" y="1628640"/>
            <a:ext cx="8271000" cy="489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спроигрышная лот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леты под номерами 101, 102, 103, 104 – получают офицерские линей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5, 106, 107 – цветн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8, 109, 110 – блок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1, 112, 113 – 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4, 115 – 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6, 1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ные задания «Глаголъ» для 5 класса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презентаций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templated.ru/obrazovanie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ычева Марина Станиславовна. Открытое внеклассное мероприятие на тему: «В гостях у русского языка».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openclass.ru/node/1676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Ирина Александровна Остря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ценарий открытия недели русского я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http://www.proshkolu.ru/contest/nedelya/file2/24256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, польский и англий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ий и бельгийск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друз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чем же э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879640" cy="3311640"/>
          </a:xfrm>
          <a:prstGeom prst="rect">
            <a:avLst/>
          </a:prstGeom>
          <a:ln w="9360">
            <a:solidFill>
              <a:srgbClr val="9747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115920"/>
            <a:ext cx="764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 детства ты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ликим Русским Язы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чтобы грамотным прослы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расиво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рошо учи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стоит подруж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ежду прочим, он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не дождётся в гости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 открыть теб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звуков, букв и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ветствие»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Алфав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Словосочет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3.bp.blogspot.com/-1JE3BamWQqI/Usw8Iv4dOVI/AAAAAAAAChg/sXooFefFsFA/s1600/%D0%9F%D1%80%D0%B8%D0%B2%D0%B5%D1%82.png"/>
          <p:cNvPicPr/>
          <p:nvPr/>
        </p:nvPicPr>
        <p:blipFill>
          <a:blip r:embed="rId1"/>
          <a:stretch/>
        </p:blipFill>
        <p:spPr>
          <a:xfrm>
            <a:off x="6732720" y="189000"/>
            <a:ext cx="2103480" cy="1877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етическое лаком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 для ответа – 3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1557360"/>
            <a:ext cx="43196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а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61080" y="1557360"/>
            <a:ext cx="43192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о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6400" y="83628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трочку не сможет прочитать ни один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вейн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руки бывают местоимени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они ВЫ-МЫ-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естоимения, которые мешают водителям на дор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-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Р она теч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П для вас печ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ебяки и ватру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 кашу и гал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ЧКА – ПЕЧК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видеть с закрытыми глаз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а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56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грамма — перестановка букв в слове, создающая новое слово (например, роман — норма). Вам необходимо составить к данным словам новые слова. За правильный ответ вы получите по 1 баллу. Время для ответа–2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Алфав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Словосоче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ба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5120" y="63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акого дерева состоит из четырёх предло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-О-С-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фразеологизма марсиане могли бы заключить, что у человека не две ноги, а больш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ЖАТЬ СО ВСЕХ 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ноги у газеты, книги, журн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, КОГДА ИХ ДЕРЖАТ «ВВЕРХ НОГА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лухим траву она сре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звонким – листья объе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А – 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найдёшь тог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котле кипит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ье – слог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столик школьный т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 – 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царстве вам предстоит расшифровать пословиц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 запишите строчными буквами предложением с  заглавной буквы в начале и точкой в конце. Оцениваться задание будет пятибалльной шкале: грамотность, соблюдение орфографических норм, полнота ответа, время, не использование подсказ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для ответа – 4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User</cp:lastModifiedBy>
  <dcterms:modified xsi:type="dcterms:W3CDTF">2017-01-29T16:07:18Z</dcterms:modified>
  <cp:revision>44</cp:revision>
  <dc:subject/>
  <dc:title>Diapositiva 1</dc:title>
</cp:coreProperties>
</file>