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0918-933E-4B73-B61B-D81D562C7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F17C-1432-4B73-9850-07349554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0CCC-EEE1-4BAA-AA05-2C6B6DA72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7324-A7CA-4286-B210-0768CCF2E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660D-F2C2-4C6D-B5A9-EA68B5EAE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1F2D-FDE9-4359-8FDC-F0FD4D64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3F70-B9CA-4E50-A7F7-E8DB43AB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D0E5-3923-4915-B133-5553E87D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27DD-67B7-47CC-9FD3-B4F99C63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2763-92DA-41EC-A78B-83282121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6848-B09B-4F2B-A5CA-42BE394E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2DC5-1FA3-497D-B57A-F5CFC4D4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6354-5953-4943-BFCC-878EFC51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4A04-D1D9-492B-9AB5-CD7C2FDB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86A3-8982-4D71-B2DA-26EDAC8F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98C9-6242-4E0B-8DB5-ED0BAEB92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B553-3C1F-4E22-8716-2CA548AC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CFEB-7D66-424A-9CBE-0993060A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45D4-7948-4336-95E8-D756314D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1798-0065-4F76-82F4-CDBFE8F7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A8EA-592E-4D4D-A35F-09AE4ADE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68A5-40E7-407F-A7C8-634588B3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269F-96C5-4DE2-AEA0-E6DD60F2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284B-DF32-40A1-8B38-F3225991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C430-1864-47F2-BF24-08BB824C8422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281E-F593-4061-99E7-11BE9DBCCD9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34920" y="1196640"/>
            <a:ext cx="49690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тях у Русского язы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26"/>
          <p:cNvSpPr/>
          <p:nvPr/>
        </p:nvSpPr>
        <p:spPr>
          <a:xfrm>
            <a:off x="3708360" y="4508640"/>
            <a:ext cx="4969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классное мероприят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усскому языку в 5 класс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учитель русского языка и литератур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орова Диана Баянбеков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51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И В ПЛЕО ЕН ОВ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ои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ДЕ МЕРЯВ, А ХЕТЕПО С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рем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3059280" y="3141720"/>
            <a:ext cx="100800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2987640" y="6021360"/>
            <a:ext cx="12970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7812000" y="6093000"/>
            <a:ext cx="1152720" cy="576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й команде по очереди загадываются пословицы с пропущенным словом. Учащиеся должны найти пропущенное слово и перевести его на казахский и английский языки. За каждый правильный ответ вы получите по 1 баллу. Максимальный балл - 3 бал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64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пеши ..., торопись де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зык, тіл, tongue [tʌŋ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ознается в бе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руг, дос, friend [frend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освещается солнцем, а человек – зна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ир, әлем, universe [ju:nɪvɜ:s] или world [wɜ: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траха ... вел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аза, көз, ey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a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рославляет тру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еловек, адам, man [mæn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– лучший дру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нига, кітап, book [bʊk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ихо-варен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участников команд должен прочитать наизусть стихотворение. Критерии оценивания: название произведения и автор, выразительность, эмоциональность, громкость. Максимальный балл – 4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ловия конкурса: команды выстраиваются в прямую линию. Учитель сообщает скороговорку первому игроку, по сигналу тот шепотом передает ее второму и т.д. Последний должен внятно и громко произнести скороговорку. Критерии оценивание – это внятность и громкость. Максимальный балл – 2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ивом уголке жили ежи да у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ит ежик у елки, а у ежа игол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ают две курицы прямо по ули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шающая 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33336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КВАС пишется слитно, а К ВАМ – раздельн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лово «квас» - имя существительное, а – «к вам» - местоимение с предлого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существительное состоит из трёх 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РИ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местоимение требует чисто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к птицы – это первый с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– известен всем предлог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ретий – бурная волн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шарада всем яс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Р – НА – ВА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Ы мы мчим вас что есть мо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 – мы ноги вам промоч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ЫЖИ – ЛУЖ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www.belgdb.ru/assets/templates/project/2015/teenager/under_sun/img/main.png"/>
          <p:cNvPicPr/>
          <p:nvPr/>
        </p:nvPicPr>
        <p:blipFill>
          <a:blip r:embed="rId1"/>
          <a:stretch/>
        </p:blipFill>
        <p:spPr>
          <a:xfrm>
            <a:off x="395280" y="1628640"/>
            <a:ext cx="8271000" cy="4896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еспроигрышная лотер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леты под номерами 101, 102, 103, 104 – получают офицерские линей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5, 106, 107 – цветные каранда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8, 109, 110 – блок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1, 112, 113 – клей П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4, 115 – ру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6, 117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ая 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адные задания «Глаголъ» для 5 класса по русск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ы презентаций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templated.ru/obrazovanie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пычева Марина Станиславовна. Открытое внеклассное мероприятие на тему: «В гостях у русского языка».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www.openclass.ru/node/1676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Ирина Александровна Остряко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Сценарий открытия недели русского язык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http://www.proshkolu.ru/contest/nedelya/file2/24256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, польский и английс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льянский и бельгийски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ные друз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о чем же это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"/>
          <p:cNvPicPr/>
          <p:nvPr/>
        </p:nvPicPr>
        <p:blipFill>
          <a:blip r:embed="rId1"/>
          <a:stretch/>
        </p:blipFill>
        <p:spPr>
          <a:xfrm>
            <a:off x="5796000" y="3141720"/>
            <a:ext cx="2879640" cy="3311640"/>
          </a:xfrm>
          <a:prstGeom prst="rect">
            <a:avLst/>
          </a:prstGeom>
          <a:ln w="9360">
            <a:solidFill>
              <a:srgbClr val="97470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6000" y="115920"/>
            <a:ext cx="764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чно, с детства ты зна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еликим Русским Язык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, чтобы грамотным прослы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красиво говор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хорошо учить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им стоит подружи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между прочим, он сейч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ёт не дождётся в гости н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ам открыть тебе го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ы звуков, букв и сл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ветствие»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Алфави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Словосочета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3.bp.blogspot.com/-1JE3BamWQqI/Usw8Iv4dOVI/AAAAAAAAChg/sXooFefFsFA/s1600/%D0%9F%D1%80%D0%B8%D0%B2%D0%B5%D1%82.png"/>
          <p:cNvPicPr/>
          <p:nvPr/>
        </p:nvPicPr>
        <p:blipFill>
          <a:blip r:embed="rId1"/>
          <a:stretch/>
        </p:blipFill>
        <p:spPr>
          <a:xfrm>
            <a:off x="6732720" y="189000"/>
            <a:ext cx="2103480" cy="18777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нетическое лаком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br>
              <a:rPr sz="36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бал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емя для ответа – 3 мину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4920" y="1557360"/>
            <a:ext cx="431964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а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861080" y="1557360"/>
            <a:ext cx="431928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о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06400" y="83628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строчку не сможет прочитать ни один челове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Швейну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руки бывают местоимения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гда они ВЫ-МЫ-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местоимения, которые мешают водителям на дорог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-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Р она течё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П для вас печё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ебяки и ватрушк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т кашу и галу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ЧКА – ПЕЧКА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ожно видеть с закрытыми глаз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на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26560" y="1125360"/>
            <a:ext cx="82090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грамма — перестановка букв в слове, создающая новое слово (например, роман — норма). Вам необходимо составить к данным словам новые слова. За правильный ответ вы получите по 1 баллу. Время для ответа–2 мину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Алфави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на 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Словосочет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бан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35120" y="63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какого дерева состоит из четырёх предлог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-О-С-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акого фразеологизма марсиане могли бы заключить, что у человека не две ноги, а больш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ЖАТЬ СО ВСЕХ НО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ли ноги у газеты, книги, журнал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СТЬ, КОГДА ИХ ДЕРЖАТ «ВВЕРХ НОГАМ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лухим траву она среза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звонким – листья объед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СА – К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первый слог найдёшь тог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 котле кипит во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именье – слог втор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целом – столик школьный т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АР – 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этом царстве вам предстоит расшифровать пословицу.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твет запишите строчными буквами предложением с  заглавной буквы в начале и точкой в конце. Оцениваться задание будет пятибалльной шкале: грамотность, соблюдение орфографических норм, полнота ответа, время, не использование подсказк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я для ответа – 4 мину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User</cp:lastModifiedBy>
  <dcterms:modified xsi:type="dcterms:W3CDTF">2017-01-29T16:07:18Z</dcterms:modified>
  <cp:revision>44</cp:revision>
  <dc:subject/>
  <dc:title>Diapositiva 1</dc:title>
</cp:coreProperties>
</file>